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72D-FE4F-4260-ADEA-179F6AB4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8C9-D88A-40E1-BF0C-72F9A2BF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4B2-8B1A-4BC6-9F9D-0E55F661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7A8-B257-448E-ACFC-4659A4F7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DAF-1972-4BB3-B441-4B3E4FE5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A8D-550D-441C-B005-6E2AC9A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FED-43FE-4D72-8988-7FDDC54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CCB-EED9-4052-887B-828B5D5F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C51-7437-405C-800D-D8C5ABD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F62-233D-4FE9-BB51-C0561AB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D7D-B3F5-4EAD-B2E0-0A2537E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550-926D-48F6-9B8A-CEC94F4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A13-4DFE-43C9-9EC7-C52A40DDB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20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689616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817668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22400" y="160200"/>
            <a:ext cx="7099200" cy="6537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803232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256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1547640" y="1773360"/>
                <a:ext cx="622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Объект 6"/>
          <p:cNvGraphicFramePr/>
          <p:nvPr/>
        </p:nvGraphicFramePr>
        <p:xfrm>
          <a:off x="5148360" y="3068640"/>
          <a:ext cx="21319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068640"/>
                    <a:ext cx="21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606924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Овал 1"/>
          <p:cNvSpPr/>
          <p:nvPr/>
        </p:nvSpPr>
        <p:spPr>
          <a:xfrm>
            <a:off x="3276720" y="1341360"/>
            <a:ext cx="7905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35940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Овал 1"/>
          <p:cNvSpPr/>
          <p:nvPr/>
        </p:nvSpPr>
        <p:spPr>
          <a:xfrm>
            <a:off x="4284720" y="1125360"/>
            <a:ext cx="1150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96212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404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"/>
          <p:cNvSpPr/>
          <p:nvPr/>
        </p:nvSpPr>
        <p:spPr>
          <a:xfrm>
            <a:off x="250920" y="3357720"/>
            <a:ext cx="324144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8897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2772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96212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5"/>
          <p:cNvSpPr/>
          <p:nvPr/>
        </p:nvSpPr>
        <p:spPr>
          <a:xfrm>
            <a:off x="1332000" y="450864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518240" cy="607716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250920" y="3068640"/>
            <a:ext cx="273672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648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121440" cy="544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3887640" cy="115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745596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6:11:35Z</dcterms:created>
  <dc:creator>User</dc:creator>
  <dc:description/>
  <dc:language>en-US</dc:language>
  <cp:lastModifiedBy>User</cp:lastModifiedBy>
  <dcterms:modified xsi:type="dcterms:W3CDTF">2021-04-25T11:40:59Z</dcterms:modified>
  <cp:revision>7</cp:revision>
  <dc:subject/>
  <dc:title>Презентация PowerPoint</dc:title>
</cp:coreProperties>
</file>